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12.wmf" ContentType="image/x-wmf"/>
  <Override PartName="/ppt/media/image9.gif" ContentType="image/gif"/>
  <Override PartName="/ppt/media/image22.wmf" ContentType="image/x-wmf"/>
  <Override PartName="/ppt/media/image8.gif" ContentType="image/gif"/>
  <Override PartName="/ppt/media/image19.wmf" ContentType="image/x-wmf"/>
  <Override PartName="/ppt/media/image21.wmf" ContentType="image/x-wmf"/>
  <Override PartName="/ppt/media/image11.wmf" ContentType="image/x-wmf"/>
  <Override PartName="/ppt/media/image7.png" ContentType="image/png"/>
  <Override PartName="/ppt/media/image15.wmf" ContentType="image/x-wmf"/>
  <Override PartName="/ppt/media/image23.wmf" ContentType="image/x-wmf"/>
  <Override PartName="/ppt/media/image6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3F37-7CE3-41C3-AE36-070D2692F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308C-C470-4F2E-9E74-791086DC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8295-85DC-44B0-AB62-4EFBF416F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C82A0-5001-4ADD-8C72-DD292943D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2605-914D-4BBA-9612-8968FF2A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6321-11D4-4C1A-B93E-29DEE2D2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75157-8BE5-44A6-96CB-356FE4EC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90F-592F-405E-A38D-78BDC9D1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E8A95-1B6E-47C3-BEE7-50775B5FA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84FCE-4B7F-45B6-AD70-534A6C50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5311-488A-46CD-BEAC-A96A836B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80C-8109-4A31-839D-4D925662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63DC-91D2-49B4-82A4-0AD68554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D405F-B49C-4D60-9051-49A18EA9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ACC44-C78E-4BD1-B0A3-3CE232DC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D5D1-210B-47C1-A8FA-2F6DB0E2E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EF61-8B86-440F-814A-D8F893DF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44280-F6E2-4CFE-9490-4FBE6C58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58D9C-E432-4EDA-B53C-BBB2A301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8D28E-D509-4568-AAE3-4E8DDA4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8A12F-7E47-4529-BCF8-68C955A08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D5D8D3-A60B-4EC7-B0DC-DE8A00FAD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E746-BFEB-49A7-9FA2-BEE3D111D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50B19D-2A0B-4D3D-877B-38BC97F82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55C6-73FA-45E4-872D-A3492D14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E0107-6719-462C-8F33-0625A1CB4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564A37-358F-487D-A4A8-7AD47A4FE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7477-56E1-4F70-BDEC-7EE50321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6D584-D5E2-4B9C-BC0E-A21109880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7DFDD-4FCE-4BD0-B522-649701C11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B801-70C9-4674-A3CB-C48FC36D7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7D4-FD55-4A8D-A7AF-9B7D0E3CE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06C-2899-48D2-9592-22693176E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05333-53F7-434A-9906-EFE4CA3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D76-DCC5-4337-82D2-9BC7419F8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9B31-1621-424E-8F2B-217D59483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8CA10-BBF9-4EF7-8C91-3BDE4A265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2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3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6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9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56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57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9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60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2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63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5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66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8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69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1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72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75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78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0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6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117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4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125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131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134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6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9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140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2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8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49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1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52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54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DEA25-E3BD-4915-9AA1-B3236F334150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218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219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1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222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223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227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228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6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237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2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43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5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46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4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85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7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88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5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96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8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99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1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302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3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314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6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317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8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22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323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325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326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327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4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5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336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0AA8-C405-40A3-BD4C-4EEDC2E18476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wmf"/><Relationship Id="rId3" Type="http://schemas.openxmlformats.org/officeDocument/2006/relationships/slide" Target="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wmf"/><Relationship Id="rId3" Type="http://schemas.openxmlformats.org/officeDocument/2006/relationships/slide" Target="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wmf"/><Relationship Id="rId3" Type="http://schemas.openxmlformats.org/officeDocument/2006/relationships/slide" Target="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wmf"/><Relationship Id="rId3" Type="http://schemas.openxmlformats.org/officeDocument/2006/relationships/slide" Target="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wmf"/><Relationship Id="rId3" Type="http://schemas.openxmlformats.org/officeDocument/2006/relationships/slide" Target="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" descr=""/>
          <p:cNvPicPr/>
          <p:nvPr/>
        </p:nvPicPr>
        <p:blipFill>
          <a:blip r:embed="rId1"/>
          <a:stretch/>
        </p:blipFill>
        <p:spPr>
          <a:xfrm>
            <a:off x="2590920" y="0"/>
            <a:ext cx="4195800" cy="68580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3357720" y="1752480"/>
            <a:ext cx="244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elcome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Mex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817640" cy="1307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781680" y="2438280"/>
            <a:ext cx="19814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Mexican Fla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rcRect l="13898" t="58284" r="10020" b="0"/>
          <a:stretch/>
        </p:blipFill>
        <p:spPr>
          <a:xfrm rot="19027200">
            <a:off x="6781320" y="3809520"/>
            <a:ext cx="2087640" cy="114624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 rot="20506800">
            <a:off x="533160" y="1981080"/>
            <a:ext cx="16952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Our neighbor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o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the Sout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396" name="">
            <a:hlinkClick r:id="" action="ppaction://hlinkshowjump?jump=nextslide"/>
          </p:cNvPr>
          <p:cNvSpPr/>
          <p:nvPr/>
        </p:nvSpPr>
        <p:spPr>
          <a:xfrm>
            <a:off x="8153280" y="586728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 rot="955800">
            <a:off x="533160" y="4267080"/>
            <a:ext cx="1947600" cy="1873440"/>
          </a:xfrm>
          <a:prstGeom prst="rect">
            <a:avLst/>
          </a:prstGeom>
          <a:ln w="0">
            <a:noFill/>
          </a:ln>
        </p:spPr>
      </p:pic>
      <p:sp>
        <p:nvSpPr>
          <p:cNvPr id="436" name="">
            <a:hlinkClick r:id="rId2" action="ppaction://hlinksldjump"/>
          </p:cNvPr>
          <p:cNvSpPr/>
          <p:nvPr/>
        </p:nvSpPr>
        <p:spPr>
          <a:xfrm>
            <a:off x="8001000" y="586728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1838" fill="hold"/>
                                        <p:tgtEl>
                                          <p:spTgt spid="4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39" name=""/>
          <p:cNvSpPr/>
          <p:nvPr/>
        </p:nvSpPr>
        <p:spPr>
          <a:xfrm>
            <a:off x="1230480" y="365760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Blanc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67280" y="3733920"/>
            <a:ext cx="1295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>
            <a:hlinkClick r:id="rId1" action="ppaction://hlinksldjump"/>
          </p:cNvPr>
          <p:cNvSpPr/>
          <p:nvPr/>
        </p:nvSpPr>
        <p:spPr>
          <a:xfrm>
            <a:off x="800100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100320" y="106668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zul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>
            <a:hlinkClick r:id="rId1" action="ppaction://hlinksldjump"/>
          </p:cNvPr>
          <p:cNvSpPr/>
          <p:nvPr/>
        </p:nvSpPr>
        <p:spPr>
          <a:xfrm>
            <a:off x="1600200" y="3733920"/>
            <a:ext cx="16668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>
            <a:hlinkClick r:id="rId2" action="ppaction://hlinksldjump"/>
          </p:cNvPr>
          <p:cNvSpPr/>
          <p:nvPr/>
        </p:nvSpPr>
        <p:spPr>
          <a:xfrm>
            <a:off x="5724360" y="3733920"/>
            <a:ext cx="1667160" cy="1295280"/>
          </a:xfrm>
          <a:prstGeom prst="triangle">
            <a:avLst>
              <a:gd name="adj" fmla="val 50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8001000" y="5791320"/>
            <a:ext cx="814320" cy="738000"/>
          </a:xfrm>
          <a:custGeom>
            <a:avLst/>
            <a:gdLst>
              <a:gd name="textAreaLeft" fmla="*/ 47520 w 814320"/>
              <a:gd name="textAreaRight" fmla="*/ 766800 w 814320"/>
              <a:gd name="textAreaTop" fmla="*/ 47520 h 738000"/>
              <a:gd name="textAreaBottom" fmla="*/ 690480 h 738000"/>
            </a:gdLst>
            <a:ahLst/>
            <a:rect l="textAreaLeft" t="textAreaTop" r="textAreaRight" b="textAreaBottom"/>
            <a:pathLst>
              <a:path w="23833" h="21600">
                <a:moveTo>
                  <a:pt x="0" y="0"/>
                </a:moveTo>
                <a:lnTo>
                  <a:pt x="23833" y="0"/>
                </a:lnTo>
                <a:lnTo>
                  <a:pt x="23833" y="21600"/>
                </a:lnTo>
                <a:lnTo>
                  <a:pt x="0" y="21600"/>
                </a:lnTo>
                <a:close/>
              </a:path>
              <a:path fill="lightenLess" w="23833" h="21600">
                <a:moveTo>
                  <a:pt x="0" y="0"/>
                </a:moveTo>
                <a:lnTo>
                  <a:pt x="23833" y="0"/>
                </a:lnTo>
                <a:lnTo>
                  <a:pt x="22433" y="1400"/>
                </a:lnTo>
                <a:lnTo>
                  <a:pt x="1400" y="1400"/>
                </a:lnTo>
                <a:close/>
              </a:path>
              <a:path fill="darken" w="23833" h="21600">
                <a:moveTo>
                  <a:pt x="23833" y="0"/>
                </a:moveTo>
                <a:lnTo>
                  <a:pt x="23833" y="21600"/>
                </a:lnTo>
                <a:lnTo>
                  <a:pt x="22433" y="20200"/>
                </a:lnTo>
                <a:lnTo>
                  <a:pt x="22433" y="1400"/>
                </a:lnTo>
                <a:close/>
              </a:path>
              <a:path fill="darkenLess" w="23833" h="21600">
                <a:moveTo>
                  <a:pt x="238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33" y="20200"/>
                </a:lnTo>
                <a:close/>
              </a:path>
              <a:path fill="lighten" w="238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33" h="21600">
                <a:moveTo>
                  <a:pt x="4910" y="3794"/>
                </a:moveTo>
                <a:lnTo>
                  <a:pt x="18923" y="10800"/>
                </a:lnTo>
                <a:lnTo>
                  <a:pt x="491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3039" fill="hold"/>
                                        <p:tgtEl>
                                          <p:spTgt spid="4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 txBox="1"/>
          <p:nvPr/>
        </p:nvSpPr>
        <p:spPr>
          <a:xfrm>
            <a:off x="1247760" y="15811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49" name=""/>
          <p:cNvSpPr/>
          <p:nvPr/>
        </p:nvSpPr>
        <p:spPr>
          <a:xfrm>
            <a:off x="1042920" y="3429000"/>
            <a:ext cx="27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Azul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1320" y="3200400"/>
            <a:ext cx="1666800" cy="1295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>
            <a:hlinkClick r:id="rId1" action="ppaction://hlinksldjump"/>
          </p:cNvPr>
          <p:cNvSpPr/>
          <p:nvPr/>
        </p:nvSpPr>
        <p:spPr>
          <a:xfrm>
            <a:off x="7924680" y="5867280"/>
            <a:ext cx="890640" cy="738360"/>
          </a:xfrm>
          <a:custGeom>
            <a:avLst/>
            <a:gdLst>
              <a:gd name="textAreaLeft" fmla="*/ 47520 w 890640"/>
              <a:gd name="textAreaRight" fmla="*/ 843120 w 89064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6053" h="21600">
                <a:moveTo>
                  <a:pt x="0" y="0"/>
                </a:moveTo>
                <a:lnTo>
                  <a:pt x="26053" y="0"/>
                </a:lnTo>
                <a:lnTo>
                  <a:pt x="26053" y="21600"/>
                </a:lnTo>
                <a:lnTo>
                  <a:pt x="0" y="21600"/>
                </a:lnTo>
                <a:close/>
              </a:path>
              <a:path fill="lightenLess" w="26053" h="21600">
                <a:moveTo>
                  <a:pt x="0" y="0"/>
                </a:moveTo>
                <a:lnTo>
                  <a:pt x="26053" y="0"/>
                </a:lnTo>
                <a:lnTo>
                  <a:pt x="24653" y="1400"/>
                </a:lnTo>
                <a:lnTo>
                  <a:pt x="1400" y="1400"/>
                </a:lnTo>
                <a:close/>
              </a:path>
              <a:path fill="darken" w="26053" h="21600">
                <a:moveTo>
                  <a:pt x="26053" y="0"/>
                </a:moveTo>
                <a:lnTo>
                  <a:pt x="26053" y="21600"/>
                </a:lnTo>
                <a:lnTo>
                  <a:pt x="24653" y="20200"/>
                </a:lnTo>
                <a:lnTo>
                  <a:pt x="24653" y="1400"/>
                </a:lnTo>
                <a:close/>
              </a:path>
              <a:path fill="darkenLess" w="26053" h="21600">
                <a:moveTo>
                  <a:pt x="260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53" y="20200"/>
                </a:lnTo>
                <a:close/>
              </a:path>
              <a:path fill="lighten" w="260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53" h="21600">
                <a:moveTo>
                  <a:pt x="6020" y="3794"/>
                </a:moveTo>
                <a:lnTo>
                  <a:pt x="20033" y="10800"/>
                </a:lnTo>
                <a:lnTo>
                  <a:pt x="602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Cabell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867280" y="3124080"/>
            <a:ext cx="2143080" cy="2360880"/>
          </a:xfrm>
          <a:prstGeom prst="rect">
            <a:avLst/>
          </a:prstGeom>
          <a:ln w="0">
            <a:noFill/>
          </a:ln>
        </p:spPr>
      </p:pic>
      <p:pic>
        <p:nvPicPr>
          <p:cNvPr id="45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200400"/>
            <a:ext cx="2743200" cy="2220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56" name="">
            <a:hlinkClick r:id="rId1" action="ppaction://hlinksldjump"/>
          </p:cNvPr>
          <p:cNvSpPr/>
          <p:nvPr/>
        </p:nvSpPr>
        <p:spPr>
          <a:xfrm>
            <a:off x="7924680" y="5791320"/>
            <a:ext cx="738360" cy="81432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814320"/>
              <a:gd name="textAreaBottom" fmla="*/ 766800 h 814320"/>
            </a:gdLst>
            <a:ahLst/>
            <a:rect l="textAreaLeft" t="textAreaTop" r="textAreaRight" b="textAreaBottom"/>
            <a:pathLst>
              <a:path w="21600" h="23821">
                <a:moveTo>
                  <a:pt x="0" y="0"/>
                </a:moveTo>
                <a:lnTo>
                  <a:pt x="21600" y="0"/>
                </a:lnTo>
                <a:lnTo>
                  <a:pt x="21600" y="23821"/>
                </a:lnTo>
                <a:lnTo>
                  <a:pt x="0" y="23821"/>
                </a:lnTo>
                <a:close/>
              </a:path>
              <a:path fill="lightenLess" w="21600" h="23821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821">
                <a:moveTo>
                  <a:pt x="21600" y="0"/>
                </a:moveTo>
                <a:lnTo>
                  <a:pt x="21600" y="23821"/>
                </a:lnTo>
                <a:lnTo>
                  <a:pt x="20200" y="22421"/>
                </a:lnTo>
                <a:lnTo>
                  <a:pt x="20200" y="1400"/>
                </a:lnTo>
                <a:close/>
              </a:path>
              <a:path fill="darkenLess" w="21600" h="23821">
                <a:moveTo>
                  <a:pt x="21600" y="23821"/>
                </a:moveTo>
                <a:lnTo>
                  <a:pt x="0" y="23821"/>
                </a:lnTo>
                <a:lnTo>
                  <a:pt x="1400" y="22421"/>
                </a:lnTo>
                <a:lnTo>
                  <a:pt x="20200" y="22421"/>
                </a:lnTo>
                <a:close/>
              </a:path>
              <a:path fill="lighten" w="21600" h="23821">
                <a:moveTo>
                  <a:pt x="0" y="23821"/>
                </a:moveTo>
                <a:lnTo>
                  <a:pt x="0" y="0"/>
                </a:lnTo>
                <a:lnTo>
                  <a:pt x="1400" y="1400"/>
                </a:lnTo>
                <a:lnTo>
                  <a:pt x="1400" y="22421"/>
                </a:lnTo>
                <a:close/>
              </a:path>
              <a:path fill="darken" w="21600" h="23821">
                <a:moveTo>
                  <a:pt x="3794" y="4904"/>
                </a:moveTo>
                <a:lnTo>
                  <a:pt x="17806" y="11911"/>
                </a:lnTo>
                <a:lnTo>
                  <a:pt x="3794" y="18917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3583" fill="hold"/>
                                        <p:tgtEl>
                                          <p:spTgt spid="4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37339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Cabell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2743200" cy="2220840"/>
          </a:xfrm>
          <a:prstGeom prst="rect">
            <a:avLst/>
          </a:prstGeom>
          <a:ln w="0">
            <a:noFill/>
          </a:ln>
        </p:spPr>
      </p:pic>
      <p:sp>
        <p:nvSpPr>
          <p:cNvPr id="461" name="">
            <a:hlinkClick r:id="rId2" action="ppaction://hlinksldjump"/>
          </p:cNvPr>
          <p:cNvSpPr/>
          <p:nvPr/>
        </p:nvSpPr>
        <p:spPr>
          <a:xfrm>
            <a:off x="8077320" y="5715000"/>
            <a:ext cx="814320" cy="81432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Vaca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85800" y="2590920"/>
            <a:ext cx="3373560" cy="2779560"/>
          </a:xfrm>
          <a:prstGeom prst="rect">
            <a:avLst/>
          </a:prstGeom>
          <a:ln w="0">
            <a:noFill/>
          </a:ln>
        </p:spPr>
      </p:pic>
      <p:pic>
        <p:nvPicPr>
          <p:cNvPr id="46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429240" y="2895480"/>
            <a:ext cx="2257560" cy="2295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6" name="">
            <a:hlinkClick r:id="rId1" action="ppaction://hlinksldjump"/>
          </p:cNvPr>
          <p:cNvSpPr/>
          <p:nvPr/>
        </p:nvSpPr>
        <p:spPr>
          <a:xfrm>
            <a:off x="8001000" y="5867280"/>
            <a:ext cx="814320" cy="8146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3269" fill="hold"/>
                                        <p:tgtEl>
                                          <p:spTgt spid="4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2057400" y="609480"/>
            <a:ext cx="5381640" cy="1076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Lets Review!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1143000"/>
            <a:ext cx="76960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We will review some of the fun facts we learned about Mexico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Read each ques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Click the answer you think is r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oper Black"/>
              </a:rPr>
              <a:t>Try your B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410080" y="3200400"/>
            <a:ext cx="3046680" cy="3325680"/>
          </a:xfrm>
          <a:prstGeom prst="rect">
            <a:avLst/>
          </a:prstGeom>
          <a:ln w="0">
            <a:noFill/>
          </a:ln>
        </p:spPr>
      </p:pic>
      <p:sp>
        <p:nvSpPr>
          <p:cNvPr id="400" name="">
            <a:hlinkClick r:id="" action="ppaction://hlinkshowjump?jump=nextslide"/>
          </p:cNvPr>
          <p:cNvSpPr/>
          <p:nvPr/>
        </p:nvSpPr>
        <p:spPr>
          <a:xfrm>
            <a:off x="8229600" y="5943600"/>
            <a:ext cx="738360" cy="738360"/>
          </a:xfrm>
          <a:custGeom>
            <a:avLst/>
            <a:gdLst>
              <a:gd name="textAreaLeft" fmla="*/ 47880 w 738360"/>
              <a:gd name="textAreaRight" fmla="*/ 690840 w 73836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27672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Vaca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" descr=""/>
          <p:cNvPicPr/>
          <p:nvPr/>
        </p:nvPicPr>
        <p:blipFill>
          <a:blip r:embed="rId1"/>
          <a:stretch/>
        </p:blipFill>
        <p:spPr>
          <a:xfrm>
            <a:off x="5029200" y="2286000"/>
            <a:ext cx="3373560" cy="2779560"/>
          </a:xfrm>
          <a:prstGeom prst="rect">
            <a:avLst/>
          </a:prstGeom>
          <a:ln w="0">
            <a:noFill/>
          </a:ln>
        </p:spPr>
      </p:pic>
      <p:sp>
        <p:nvSpPr>
          <p:cNvPr id="471" name="">
            <a:hlinkClick r:id="rId2" action="ppaction://hlinksldjump"/>
          </p:cNvPr>
          <p:cNvSpPr/>
          <p:nvPr/>
        </p:nvSpPr>
        <p:spPr>
          <a:xfrm>
            <a:off x="7848720" y="5867280"/>
            <a:ext cx="814320" cy="738360"/>
          </a:xfrm>
          <a:custGeom>
            <a:avLst/>
            <a:gdLst>
              <a:gd name="textAreaLeft" fmla="*/ 47880 w 814320"/>
              <a:gd name="textAreaRight" fmla="*/ 766800 w 814320"/>
              <a:gd name="textAreaTop" fmla="*/ 47880 h 738360"/>
              <a:gd name="textAreaBottom" fmla="*/ 690840 h 738360"/>
            </a:gdLst>
            <a:ahLst/>
            <a:rect l="textAreaLeft" t="textAreaTop" r="textAreaRight" b="textAreaBottom"/>
            <a:pathLst>
              <a:path w="23821" h="21600">
                <a:moveTo>
                  <a:pt x="0" y="0"/>
                </a:moveTo>
                <a:lnTo>
                  <a:pt x="23821" y="0"/>
                </a:lnTo>
                <a:lnTo>
                  <a:pt x="23821" y="21600"/>
                </a:lnTo>
                <a:lnTo>
                  <a:pt x="0" y="21600"/>
                </a:lnTo>
                <a:close/>
              </a:path>
              <a:path fill="lightenLess" w="23821" h="21600">
                <a:moveTo>
                  <a:pt x="0" y="0"/>
                </a:moveTo>
                <a:lnTo>
                  <a:pt x="23821" y="0"/>
                </a:lnTo>
                <a:lnTo>
                  <a:pt x="22421" y="1400"/>
                </a:lnTo>
                <a:lnTo>
                  <a:pt x="1400" y="1400"/>
                </a:lnTo>
                <a:close/>
              </a:path>
              <a:path fill="darken" w="23821" h="21600">
                <a:moveTo>
                  <a:pt x="23821" y="0"/>
                </a:moveTo>
                <a:lnTo>
                  <a:pt x="23821" y="21600"/>
                </a:lnTo>
                <a:lnTo>
                  <a:pt x="22421" y="20200"/>
                </a:lnTo>
                <a:lnTo>
                  <a:pt x="22421" y="1400"/>
                </a:lnTo>
                <a:close/>
              </a:path>
              <a:path fill="darkenLess" w="23821" h="21600">
                <a:moveTo>
                  <a:pt x="2382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21" y="20200"/>
                </a:lnTo>
                <a:close/>
              </a:path>
              <a:path fill="lighten" w="2382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21" h="21600">
                <a:moveTo>
                  <a:pt x="4904" y="3794"/>
                </a:moveTo>
                <a:lnTo>
                  <a:pt x="18917" y="10800"/>
                </a:lnTo>
                <a:lnTo>
                  <a:pt x="490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600200" y="60948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Libr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3048120"/>
            <a:ext cx="3119400" cy="184140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6019920" y="3048120"/>
            <a:ext cx="1820880" cy="19764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6" name="">
            <a:hlinkClick r:id="rId1" action="ppaction://hlinksldjump"/>
          </p:cNvPr>
          <p:cNvSpPr/>
          <p:nvPr/>
        </p:nvSpPr>
        <p:spPr>
          <a:xfrm>
            <a:off x="7848720" y="5791320"/>
            <a:ext cx="966600" cy="890640"/>
          </a:xfrm>
          <a:custGeom>
            <a:avLst/>
            <a:gdLst>
              <a:gd name="textAreaLeft" fmla="*/ 57600 w 966600"/>
              <a:gd name="textAreaRight" fmla="*/ 909000 w 9666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41" h="21600">
                <a:moveTo>
                  <a:pt x="0" y="0"/>
                </a:moveTo>
                <a:lnTo>
                  <a:pt x="23441" y="0"/>
                </a:lnTo>
                <a:lnTo>
                  <a:pt x="23441" y="21600"/>
                </a:lnTo>
                <a:lnTo>
                  <a:pt x="0" y="21600"/>
                </a:lnTo>
                <a:close/>
              </a:path>
              <a:path fill="lightenLess" w="23441" h="21600">
                <a:moveTo>
                  <a:pt x="0" y="0"/>
                </a:moveTo>
                <a:lnTo>
                  <a:pt x="23441" y="0"/>
                </a:lnTo>
                <a:lnTo>
                  <a:pt x="22041" y="1400"/>
                </a:lnTo>
                <a:lnTo>
                  <a:pt x="1400" y="1400"/>
                </a:lnTo>
                <a:close/>
              </a:path>
              <a:path fill="darken" w="23441" h="21600">
                <a:moveTo>
                  <a:pt x="23441" y="0"/>
                </a:moveTo>
                <a:lnTo>
                  <a:pt x="23441" y="21600"/>
                </a:lnTo>
                <a:lnTo>
                  <a:pt x="22041" y="20200"/>
                </a:lnTo>
                <a:lnTo>
                  <a:pt x="22041" y="1400"/>
                </a:lnTo>
                <a:close/>
              </a:path>
              <a:path fill="darkenLess" w="23441" h="21600">
                <a:moveTo>
                  <a:pt x="23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1" y="20200"/>
                </a:lnTo>
                <a:close/>
              </a:path>
              <a:path fill="lighten" w="23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1" h="21600">
                <a:moveTo>
                  <a:pt x="4714" y="3794"/>
                </a:moveTo>
                <a:lnTo>
                  <a:pt x="18727" y="10800"/>
                </a:lnTo>
                <a:lnTo>
                  <a:pt x="47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838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79" name=""/>
          <p:cNvSpPr/>
          <p:nvPr/>
        </p:nvSpPr>
        <p:spPr>
          <a:xfrm>
            <a:off x="-457200" y="3429000"/>
            <a:ext cx="58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oper Black"/>
              </a:rPr>
              <a:t>Libro is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5334120" y="3048120"/>
            <a:ext cx="3119400" cy="1841400"/>
          </a:xfrm>
          <a:prstGeom prst="rect">
            <a:avLst/>
          </a:prstGeom>
          <a:ln w="0">
            <a:noFill/>
          </a:ln>
        </p:spPr>
      </p:pic>
      <p:sp>
        <p:nvSpPr>
          <p:cNvPr id="481" name="">
            <a:hlinkClick r:id="rId2" action="ppaction://hlinksldjump"/>
          </p:cNvPr>
          <p:cNvSpPr/>
          <p:nvPr/>
        </p:nvSpPr>
        <p:spPr>
          <a:xfrm>
            <a:off x="7772400" y="571500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3794"/>
                </a:moveTo>
                <a:lnTo>
                  <a:pt x="18818" y="10800"/>
                </a:lnTo>
                <a:lnTo>
                  <a:pt x="48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kind of plants are in Mexic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257800" y="3505320"/>
            <a:ext cx="2778120" cy="28191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066680" y="3581280"/>
            <a:ext cx="2514600" cy="2452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6" name="">
            <a:hlinkClick r:id="rId1" action="ppaction://hlinksldjump"/>
          </p:cNvPr>
          <p:cNvSpPr/>
          <p:nvPr/>
        </p:nvSpPr>
        <p:spPr>
          <a:xfrm>
            <a:off x="7848720" y="5486400"/>
            <a:ext cx="966600" cy="890640"/>
          </a:xfrm>
          <a:custGeom>
            <a:avLst/>
            <a:gdLst>
              <a:gd name="textAreaLeft" fmla="*/ 57600 w 966600"/>
              <a:gd name="textAreaRight" fmla="*/ 909000 w 96660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41" h="21600">
                <a:moveTo>
                  <a:pt x="0" y="0"/>
                </a:moveTo>
                <a:lnTo>
                  <a:pt x="23441" y="0"/>
                </a:lnTo>
                <a:lnTo>
                  <a:pt x="23441" y="21600"/>
                </a:lnTo>
                <a:lnTo>
                  <a:pt x="0" y="21600"/>
                </a:lnTo>
                <a:close/>
              </a:path>
              <a:path fill="lightenLess" w="23441" h="21600">
                <a:moveTo>
                  <a:pt x="0" y="0"/>
                </a:moveTo>
                <a:lnTo>
                  <a:pt x="23441" y="0"/>
                </a:lnTo>
                <a:lnTo>
                  <a:pt x="22041" y="1400"/>
                </a:lnTo>
                <a:lnTo>
                  <a:pt x="1400" y="1400"/>
                </a:lnTo>
                <a:close/>
              </a:path>
              <a:path fill="darken" w="23441" h="21600">
                <a:moveTo>
                  <a:pt x="23441" y="0"/>
                </a:moveTo>
                <a:lnTo>
                  <a:pt x="23441" y="21600"/>
                </a:lnTo>
                <a:lnTo>
                  <a:pt x="22041" y="20200"/>
                </a:lnTo>
                <a:lnTo>
                  <a:pt x="22041" y="1400"/>
                </a:lnTo>
                <a:close/>
              </a:path>
              <a:path fill="darkenLess" w="23441" h="21600">
                <a:moveTo>
                  <a:pt x="2344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41" y="20200"/>
                </a:lnTo>
                <a:close/>
              </a:path>
              <a:path fill="lighten" w="2344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41" h="21600">
                <a:moveTo>
                  <a:pt x="4714" y="3794"/>
                </a:moveTo>
                <a:lnTo>
                  <a:pt x="18727" y="10800"/>
                </a:lnTo>
                <a:lnTo>
                  <a:pt x="471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9888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89" name=""/>
          <p:cNvSpPr/>
          <p:nvPr/>
        </p:nvSpPr>
        <p:spPr>
          <a:xfrm>
            <a:off x="304812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rId1" action="ppaction://hlinksldjump"/>
          </p:cNvPr>
          <p:cNvSpPr/>
          <p:nvPr/>
        </p:nvSpPr>
        <p:spPr>
          <a:xfrm>
            <a:off x="3962520" y="44956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10804"/>
                </a:moveTo>
                <a:lnTo>
                  <a:pt x="17806" y="3797"/>
                </a:lnTo>
                <a:lnTo>
                  <a:pt x="17806" y="1781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1523880" y="228600"/>
            <a:ext cx="5867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What do farmers and bullfighters wear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1295280" y="3505320"/>
            <a:ext cx="1981440" cy="2288520"/>
            <a:chOff x="1295280" y="3505320"/>
            <a:chExt cx="1981440" cy="2288520"/>
          </a:xfrm>
        </p:grpSpPr>
        <p:pic>
          <p:nvPicPr>
            <p:cNvPr id="493" name="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1295280" y="3505320"/>
              <a:ext cx="1981440" cy="158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425960" y="533412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Sombre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" name=""/>
          <p:cNvGrpSpPr/>
          <p:nvPr/>
        </p:nvGrpSpPr>
        <p:grpSpPr>
          <a:xfrm>
            <a:off x="6324480" y="3733920"/>
            <a:ext cx="1990800" cy="1983600"/>
            <a:chOff x="6324480" y="3733920"/>
            <a:chExt cx="1990800" cy="1983600"/>
          </a:xfrm>
        </p:grpSpPr>
        <p:pic>
          <p:nvPicPr>
            <p:cNvPr id="496" name="" descr="">
              <a:hlinkClick r:id="rId3" action="ppaction://hlinksldjump"/>
            </p:cNvPr>
            <p:cNvPicPr/>
            <p:nvPr/>
          </p:nvPicPr>
          <p:blipFill>
            <a:blip r:embed="rId4"/>
            <a:stretch/>
          </p:blipFill>
          <p:spPr>
            <a:xfrm>
              <a:off x="6324480" y="3733920"/>
              <a:ext cx="1990800" cy="138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6729840" y="5257800"/>
              <a:ext cx="730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Ca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74320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7772400" y="57913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7348" fill="hold"/>
                                        <p:tgtEl>
                                          <p:spTgt spid="4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02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038480" y="487692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10800"/>
                </a:moveTo>
                <a:lnTo>
                  <a:pt x="18818" y="3794"/>
                </a:lnTo>
                <a:lnTo>
                  <a:pt x="188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2594520" y="304920"/>
            <a:ext cx="4056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What colors a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in th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Mexican Fla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"/>
          <p:cNvGrpSpPr/>
          <p:nvPr/>
        </p:nvGrpSpPr>
        <p:grpSpPr>
          <a:xfrm>
            <a:off x="1523880" y="4419720"/>
            <a:ext cx="1981440" cy="1523880"/>
            <a:chOff x="1523880" y="4419720"/>
            <a:chExt cx="1981440" cy="1523880"/>
          </a:xfrm>
        </p:grpSpPr>
        <p:sp>
          <p:nvSpPr>
            <p:cNvPr id="403" name="">
              <a:hlinkClick r:id="rId1" action="ppaction://hlinksldjump"/>
            </p:cNvPr>
            <p:cNvSpPr/>
            <p:nvPr/>
          </p:nvSpPr>
          <p:spPr>
            <a:xfrm>
              <a:off x="1523880" y="4419720"/>
              <a:ext cx="198144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>
              <a:hlinkClick r:id="rId2" action="ppaction://hlinksldjump"/>
            </p:cNvPr>
            <p:cNvSpPr/>
            <p:nvPr/>
          </p:nvSpPr>
          <p:spPr>
            <a:xfrm>
              <a:off x="1600200" y="4572000"/>
              <a:ext cx="182880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Purp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Yello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"/>
          <p:cNvGrpSpPr/>
          <p:nvPr/>
        </p:nvGrpSpPr>
        <p:grpSpPr>
          <a:xfrm>
            <a:off x="5943600" y="4419720"/>
            <a:ext cx="1981080" cy="1523880"/>
            <a:chOff x="5943600" y="4419720"/>
            <a:chExt cx="1981080" cy="1523880"/>
          </a:xfrm>
        </p:grpSpPr>
        <p:sp>
          <p:nvSpPr>
            <p:cNvPr id="406" name="">
              <a:hlinkClick r:id="rId3" action="ppaction://hlinksldjump"/>
            </p:cNvPr>
            <p:cNvSpPr/>
            <p:nvPr/>
          </p:nvSpPr>
          <p:spPr>
            <a:xfrm>
              <a:off x="5943600" y="4419720"/>
              <a:ext cx="19810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>
              <a:hlinkClick r:id="rId4" action="ppaction://hlinksldjump"/>
            </p:cNvPr>
            <p:cNvSpPr/>
            <p:nvPr/>
          </p:nvSpPr>
          <p:spPr>
            <a:xfrm>
              <a:off x="6019560" y="4572000"/>
              <a:ext cx="182844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Gre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" name="" descr=""/>
          <p:cNvPicPr/>
          <p:nvPr/>
        </p:nvPicPr>
        <p:blipFill>
          <a:blip r:embed="rId5"/>
          <a:stretch/>
        </p:blipFill>
        <p:spPr>
          <a:xfrm>
            <a:off x="3733920" y="2438280"/>
            <a:ext cx="1955520" cy="17337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at is the main crop in Mexico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1"/>
          <a:stretch/>
        </p:blipFill>
        <p:spPr>
          <a:xfrm>
            <a:off x="6095880" y="3352680"/>
            <a:ext cx="1716120" cy="205740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"/>
          <a:stretch/>
        </p:blipFill>
        <p:spPr>
          <a:xfrm>
            <a:off x="1219320" y="3505320"/>
            <a:ext cx="2476440" cy="2085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89548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8" name=""/>
          <p:cNvSpPr/>
          <p:nvPr/>
        </p:nvSpPr>
        <p:spPr>
          <a:xfrm>
            <a:off x="7620120" y="54864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6849" fill="hold"/>
                                        <p:tgtEl>
                                          <p:spTgt spid="5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11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5181480"/>
            <a:ext cx="1043280" cy="104328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1523880" y="228600"/>
            <a:ext cx="5867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ooper Black"/>
              </a:rPr>
              <a:t>Which is a very stubborn animal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219320" y="3200400"/>
            <a:ext cx="1922400" cy="2745720"/>
            <a:chOff x="1219320" y="3200400"/>
            <a:chExt cx="1922400" cy="2745720"/>
          </a:xfrm>
        </p:grpSpPr>
        <p:pic>
          <p:nvPicPr>
            <p:cNvPr id="515" name="" descr=""/>
            <p:cNvPicPr/>
            <p:nvPr/>
          </p:nvPicPr>
          <p:blipFill>
            <a:blip r:embed="rId1"/>
            <a:stretch/>
          </p:blipFill>
          <p:spPr>
            <a:xfrm>
              <a:off x="1219320" y="3200400"/>
              <a:ext cx="1922400" cy="224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" name=""/>
            <p:cNvSpPr/>
            <p:nvPr/>
          </p:nvSpPr>
          <p:spPr>
            <a:xfrm>
              <a:off x="1505520" y="5486400"/>
              <a:ext cx="100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Burr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6400800" y="3429000"/>
            <a:ext cx="1473120" cy="2440800"/>
            <a:chOff x="6400800" y="3429000"/>
            <a:chExt cx="1473120" cy="24408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6400800" y="3429000"/>
              <a:ext cx="1473120" cy="183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6764040" y="5410080"/>
              <a:ext cx="901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oper Black"/>
                </a:rPr>
                <a:t>Duc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2895480" y="205740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7772400" y="5791320"/>
            <a:ext cx="814320" cy="89064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90640"/>
              <a:gd name="textAreaBottom" fmla="*/ 838080 h 890640"/>
            </a:gdLst>
            <a:ahLst/>
            <a:rect l="textAreaLeft" t="textAreaTop" r="textAreaRight" b="textAreaBottom"/>
            <a:pathLst>
              <a:path w="21600" h="23624">
                <a:moveTo>
                  <a:pt x="0" y="0"/>
                </a:moveTo>
                <a:lnTo>
                  <a:pt x="21600" y="0"/>
                </a:lnTo>
                <a:lnTo>
                  <a:pt x="21600" y="23624"/>
                </a:lnTo>
                <a:lnTo>
                  <a:pt x="0" y="23624"/>
                </a:lnTo>
                <a:close/>
              </a:path>
              <a:path fill="lightenLess" w="21600" h="236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624">
                <a:moveTo>
                  <a:pt x="21600" y="0"/>
                </a:moveTo>
                <a:lnTo>
                  <a:pt x="21600" y="23624"/>
                </a:lnTo>
                <a:lnTo>
                  <a:pt x="20200" y="22224"/>
                </a:lnTo>
                <a:lnTo>
                  <a:pt x="20200" y="1400"/>
                </a:lnTo>
                <a:close/>
              </a:path>
              <a:path fill="darkenLess" w="21600" h="23624">
                <a:moveTo>
                  <a:pt x="21600" y="23624"/>
                </a:moveTo>
                <a:lnTo>
                  <a:pt x="0" y="23624"/>
                </a:lnTo>
                <a:lnTo>
                  <a:pt x="1400" y="22224"/>
                </a:lnTo>
                <a:lnTo>
                  <a:pt x="20200" y="22224"/>
                </a:lnTo>
                <a:close/>
              </a:path>
              <a:path fill="lighten" w="21600" h="23624">
                <a:moveTo>
                  <a:pt x="0" y="236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2224"/>
                </a:lnTo>
                <a:close/>
              </a:path>
              <a:path fill="darken" w="21600" h="23624">
                <a:moveTo>
                  <a:pt x="3794" y="4805"/>
                </a:moveTo>
                <a:lnTo>
                  <a:pt x="17806" y="11812"/>
                </a:lnTo>
                <a:lnTo>
                  <a:pt x="3794" y="188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1838" fill="hold"/>
                                        <p:tgtEl>
                                          <p:spTgt spid="5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1371600" y="165744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524" name=""/>
          <p:cNvSpPr/>
          <p:nvPr/>
        </p:nvSpPr>
        <p:spPr>
          <a:xfrm>
            <a:off x="2971800" y="3352680"/>
            <a:ext cx="32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oper Black"/>
              </a:rPr>
              <a:t>Try Agai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114800" y="525780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066680" y="99072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Britannic Bold"/>
              </a:rPr>
              <a:t>That’s it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371320" y="4114800"/>
            <a:ext cx="58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Britannic Bold"/>
              </a:rPr>
              <a:t>I am proud of your hard work</a:t>
            </a:r>
            <a:r>
              <a:rPr b="0" lang="en-US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4800600" y="2209680"/>
            <a:ext cx="3743280" cy="239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4000680" cy="322092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2" action="ppaction://hlinksldjump"/>
          </p:cNvPr>
          <p:cNvSpPr/>
          <p:nvPr/>
        </p:nvSpPr>
        <p:spPr>
          <a:xfrm>
            <a:off x="8001000" y="5867280"/>
            <a:ext cx="814320" cy="814680"/>
          </a:xfrm>
          <a:custGeom>
            <a:avLst/>
            <a:gdLst>
              <a:gd name="textAreaLeft" fmla="*/ 52560 w 814320"/>
              <a:gd name="textAreaRight" fmla="*/ 761760 w 814320"/>
              <a:gd name="textAreaTop" fmla="*/ 52560 h 814680"/>
              <a:gd name="textAreaBottom" fmla="*/ 762120 h 814680"/>
            </a:gdLst>
            <a:ahLst/>
            <a:rect l="textAreaLeft" t="textAreaTop" r="textAreaRight" b="textAreaBottom"/>
            <a:pathLst>
              <a:path w="21600" h="21610">
                <a:moveTo>
                  <a:pt x="0" y="0"/>
                </a:moveTo>
                <a:lnTo>
                  <a:pt x="21600" y="0"/>
                </a:lnTo>
                <a:lnTo>
                  <a:pt x="21600" y="21610"/>
                </a:lnTo>
                <a:lnTo>
                  <a:pt x="0" y="21610"/>
                </a:lnTo>
                <a:close/>
              </a:path>
              <a:path fill="lightenLess" w="21600" h="2161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0">
                <a:moveTo>
                  <a:pt x="21600" y="0"/>
                </a:moveTo>
                <a:lnTo>
                  <a:pt x="21600" y="21610"/>
                </a:lnTo>
                <a:lnTo>
                  <a:pt x="20200" y="20210"/>
                </a:lnTo>
                <a:lnTo>
                  <a:pt x="20200" y="1400"/>
                </a:lnTo>
                <a:close/>
              </a:path>
              <a:path fill="darkenLess" w="21600" h="21610">
                <a:moveTo>
                  <a:pt x="21600" y="21610"/>
                </a:moveTo>
                <a:lnTo>
                  <a:pt x="0" y="21610"/>
                </a:lnTo>
                <a:lnTo>
                  <a:pt x="1400" y="20210"/>
                </a:lnTo>
                <a:lnTo>
                  <a:pt x="20200" y="20210"/>
                </a:lnTo>
                <a:close/>
              </a:path>
              <a:path fill="lighten" w="21600" h="21610">
                <a:moveTo>
                  <a:pt x="0" y="2161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0"/>
                </a:lnTo>
                <a:close/>
              </a:path>
              <a:path fill="darken" w="21600" h="21610">
                <a:moveTo>
                  <a:pt x="3794" y="3798"/>
                </a:moveTo>
                <a:lnTo>
                  <a:pt x="17806" y="10805"/>
                </a:lnTo>
                <a:lnTo>
                  <a:pt x="3794" y="1781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888" fill="hold"/>
                                        <p:tgtEl>
                                          <p:spTgt spid="4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2057400" y="609480"/>
            <a:ext cx="50101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14" name=""/>
          <p:cNvSpPr/>
          <p:nvPr/>
        </p:nvSpPr>
        <p:spPr>
          <a:xfrm>
            <a:off x="228600" y="1752480"/>
            <a:ext cx="586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oper Black"/>
              </a:rPr>
              <a:t>Look at the Mexican Flag and try agai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5562720" y="1600200"/>
            <a:ext cx="3124080" cy="2516040"/>
          </a:xfrm>
          <a:prstGeom prst="rect">
            <a:avLst/>
          </a:prstGeom>
          <a:ln w="0">
            <a:noFill/>
          </a:ln>
        </p:spPr>
      </p:pic>
      <p:grpSp>
        <p:nvGrpSpPr>
          <p:cNvPr id="416" name=""/>
          <p:cNvGrpSpPr/>
          <p:nvPr/>
        </p:nvGrpSpPr>
        <p:grpSpPr>
          <a:xfrm>
            <a:off x="3429000" y="4648320"/>
            <a:ext cx="1981080" cy="1523880"/>
            <a:chOff x="3429000" y="4648320"/>
            <a:chExt cx="1981080" cy="1523880"/>
          </a:xfrm>
        </p:grpSpPr>
        <p:sp>
          <p:nvSpPr>
            <p:cNvPr id="417" name="">
              <a:hlinkClick r:id="rId2" action="ppaction://hlinksldjump"/>
            </p:cNvPr>
            <p:cNvSpPr/>
            <p:nvPr/>
          </p:nvSpPr>
          <p:spPr>
            <a:xfrm>
              <a:off x="3429000" y="4648320"/>
              <a:ext cx="1981080" cy="15238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>
              <a:hlinkClick r:id="rId3" action="ppaction://hlinksldjump"/>
            </p:cNvPr>
            <p:cNvSpPr/>
            <p:nvPr/>
          </p:nvSpPr>
          <p:spPr>
            <a:xfrm>
              <a:off x="3504960" y="4800600"/>
              <a:ext cx="1828440" cy="12027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Gre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Whi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oper Black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2835360" y="243828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Verde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>
            <a:hlinkClick r:id="rId1" action="ppaction://hlinksldjump"/>
          </p:cNvPr>
          <p:cNvSpPr/>
          <p:nvPr/>
        </p:nvSpPr>
        <p:spPr>
          <a:xfrm>
            <a:off x="1981080" y="4191120"/>
            <a:ext cx="1219320" cy="15238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>
            <a:hlinkClick r:id="rId2" action="ppaction://hlinksldjump"/>
          </p:cNvPr>
          <p:cNvSpPr/>
          <p:nvPr/>
        </p:nvSpPr>
        <p:spPr>
          <a:xfrm>
            <a:off x="5867280" y="4191120"/>
            <a:ext cx="1219320" cy="1523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611280" y="228600"/>
            <a:ext cx="2208240" cy="22096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2743200" y="1905120"/>
            <a:ext cx="3743280" cy="239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reat Job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at is Right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4" name=""/>
          <p:cNvSpPr/>
          <p:nvPr/>
        </p:nvSpPr>
        <p:spPr>
          <a:xfrm>
            <a:off x="7696080" y="5562720"/>
            <a:ext cx="966960" cy="890640"/>
          </a:xfrm>
          <a:custGeom>
            <a:avLst/>
            <a:gdLst>
              <a:gd name="textAreaLeft" fmla="*/ 57600 w 966960"/>
              <a:gd name="textAreaRight" fmla="*/ 909360 w 966960"/>
              <a:gd name="textAreaTop" fmla="*/ 57600 h 890640"/>
              <a:gd name="textAreaBottom" fmla="*/ 833040 h 890640"/>
            </a:gdLst>
            <a:ahLst/>
            <a:rect l="textAreaLeft" t="textAreaTop" r="textAreaRight" b="textAreaBottom"/>
            <a:pathLst>
              <a:path w="23450" h="21600">
                <a:moveTo>
                  <a:pt x="0" y="0"/>
                </a:moveTo>
                <a:lnTo>
                  <a:pt x="23450" y="0"/>
                </a:lnTo>
                <a:lnTo>
                  <a:pt x="23450" y="21600"/>
                </a:lnTo>
                <a:lnTo>
                  <a:pt x="0" y="21600"/>
                </a:lnTo>
                <a:close/>
              </a:path>
              <a:path fill="lightenLess" w="23450" h="21600">
                <a:moveTo>
                  <a:pt x="0" y="0"/>
                </a:moveTo>
                <a:lnTo>
                  <a:pt x="23450" y="0"/>
                </a:lnTo>
                <a:lnTo>
                  <a:pt x="22050" y="1400"/>
                </a:lnTo>
                <a:lnTo>
                  <a:pt x="1400" y="1400"/>
                </a:lnTo>
                <a:close/>
              </a:path>
              <a:path fill="darken" w="23450" h="21600">
                <a:moveTo>
                  <a:pt x="23450" y="0"/>
                </a:moveTo>
                <a:lnTo>
                  <a:pt x="23450" y="21600"/>
                </a:lnTo>
                <a:lnTo>
                  <a:pt x="22050" y="20200"/>
                </a:lnTo>
                <a:lnTo>
                  <a:pt x="22050" y="1400"/>
                </a:lnTo>
                <a:close/>
              </a:path>
              <a:path fill="darkenLess" w="23450" h="21600">
                <a:moveTo>
                  <a:pt x="2345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50" y="20200"/>
                </a:lnTo>
                <a:close/>
              </a:path>
              <a:path fill="lighten" w="2345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450" h="21600">
                <a:moveTo>
                  <a:pt x="4719" y="3794"/>
                </a:moveTo>
                <a:lnTo>
                  <a:pt x="18732" y="10800"/>
                </a:lnTo>
                <a:lnTo>
                  <a:pt x="471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04920" y="3808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888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 txBox="1"/>
          <p:nvPr/>
        </p:nvSpPr>
        <p:spPr>
          <a:xfrm>
            <a:off x="1371600" y="1447920"/>
            <a:ext cx="667692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No, that is not right.</a:t>
            </a:r>
            <a:endParaRPr b="0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27" name=""/>
          <p:cNvSpPr/>
          <p:nvPr/>
        </p:nvSpPr>
        <p:spPr>
          <a:xfrm>
            <a:off x="1463760" y="3276720"/>
            <a:ext cx="3298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Verde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38680" y="3048120"/>
            <a:ext cx="1219320" cy="15238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>
            <a:hlinkClick r:id="rId1" action="ppaction://hlinksldjump"/>
          </p:cNvPr>
          <p:cNvSpPr/>
          <p:nvPr/>
        </p:nvSpPr>
        <p:spPr>
          <a:xfrm>
            <a:off x="7924680" y="5715000"/>
            <a:ext cx="890640" cy="814320"/>
          </a:xfrm>
          <a:custGeom>
            <a:avLst/>
            <a:gdLst>
              <a:gd name="textAreaLeft" fmla="*/ 52560 w 890640"/>
              <a:gd name="textAreaRight" fmla="*/ 838080 w 890640"/>
              <a:gd name="textAreaTop" fmla="*/ 52560 h 814320"/>
              <a:gd name="textAreaBottom" fmla="*/ 761760 h 814320"/>
            </a:gdLst>
            <a:ahLst/>
            <a:rect l="textAreaLeft" t="textAreaTop" r="textAreaRight" b="textAreaBottom"/>
            <a:pathLst>
              <a:path w="23624" h="21600">
                <a:moveTo>
                  <a:pt x="0" y="0"/>
                </a:moveTo>
                <a:lnTo>
                  <a:pt x="23624" y="0"/>
                </a:lnTo>
                <a:lnTo>
                  <a:pt x="23624" y="21600"/>
                </a:lnTo>
                <a:lnTo>
                  <a:pt x="0" y="21600"/>
                </a:lnTo>
                <a:close/>
              </a:path>
              <a:path fill="lightenLess" w="23624" h="21600">
                <a:moveTo>
                  <a:pt x="0" y="0"/>
                </a:moveTo>
                <a:lnTo>
                  <a:pt x="23624" y="0"/>
                </a:lnTo>
                <a:lnTo>
                  <a:pt x="22224" y="1400"/>
                </a:lnTo>
                <a:lnTo>
                  <a:pt x="1400" y="1400"/>
                </a:lnTo>
                <a:close/>
              </a:path>
              <a:path fill="darken" w="23624" h="21600">
                <a:moveTo>
                  <a:pt x="23624" y="0"/>
                </a:moveTo>
                <a:lnTo>
                  <a:pt x="23624" y="21600"/>
                </a:lnTo>
                <a:lnTo>
                  <a:pt x="22224" y="20200"/>
                </a:lnTo>
                <a:lnTo>
                  <a:pt x="22224" y="1400"/>
                </a:lnTo>
                <a:close/>
              </a:path>
              <a:path fill="darkenLess" w="23624" h="21600">
                <a:moveTo>
                  <a:pt x="236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224" y="20200"/>
                </a:lnTo>
                <a:close/>
              </a:path>
              <a:path fill="lighten" w="236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624" h="21600">
                <a:moveTo>
                  <a:pt x="4805" y="3794"/>
                </a:moveTo>
                <a:lnTo>
                  <a:pt x="18818" y="10800"/>
                </a:lnTo>
                <a:lnTo>
                  <a:pt x="480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830680" y="609480"/>
            <a:ext cx="358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oper Black"/>
              </a:rPr>
              <a:t>Blanco is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>
            <a:hlinkClick r:id="rId1" action="ppaction://hlinksldjump"/>
          </p:cNvPr>
          <p:cNvSpPr/>
          <p:nvPr/>
        </p:nvSpPr>
        <p:spPr>
          <a:xfrm>
            <a:off x="1981080" y="2362320"/>
            <a:ext cx="1295640" cy="114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>
            <a:hlinkClick r:id="rId2" action="ppaction://hlinksldjump"/>
          </p:cNvPr>
          <p:cNvSpPr/>
          <p:nvPr/>
        </p:nvSpPr>
        <p:spPr>
          <a:xfrm>
            <a:off x="5943600" y="2286000"/>
            <a:ext cx="1295280" cy="1143000"/>
          </a:xfrm>
          <a:prstGeom prst="ellipse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3"/>
          <a:stretch/>
        </p:blipFill>
        <p:spPr>
          <a:xfrm>
            <a:off x="3646440" y="3581280"/>
            <a:ext cx="1763640" cy="28288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1:55:17Z</dcterms:created>
  <dc:creator> </dc:creator>
  <dc:description/>
  <dc:language>en-US</dc:language>
  <cp:lastModifiedBy> </cp:lastModifiedBy>
  <dcterms:modified xsi:type="dcterms:W3CDTF">2007-03-22T02:33:31Z</dcterms:modified>
  <cp:revision>9</cp:revision>
  <dc:subject/>
  <dc:title>Slide 1</dc:title>
</cp:coreProperties>
</file>